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884760" y="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4360" cy="341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E10B8-E274-422F-96C7-FA4680952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C0E67-E742-4599-A849-D9631C0F6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ABDCB-FCD9-4B87-9D94-DF0F5ED7E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99B2B-BF44-464E-9954-6F5CF3C95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19CB0-8715-40DB-AB92-B2FFC0987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A6D4F-31CB-472C-AB75-38C404522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70469-B7CE-42D4-9E17-106C49918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6D486-6400-4488-9F7E-BFFA586B4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D6F45-472F-4E79-8786-FDB7C2AAB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6D16F-252F-4271-A8D4-4B3FB23C88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5996C-D8F0-4F95-8784-52E98F4B5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DBF6A-153F-4F75-939F-C4A7EF5CB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379A8-9138-4558-8FF0-470B49EFE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F6C22-576C-46FC-BF5E-AE62A4977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3DA99-52DF-46B0-AE1D-941B28A64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D9C67-B7E5-4F6B-B480-79A2C35AE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3D866-9E39-4C02-ACB2-F9FF4FB40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9512A-6FEE-4E49-BCF9-41CF904F4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32102-5937-4FD3-99E8-04E24086B9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C636A-A697-4FA0-9F89-5A30C5764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5CF81-D4D9-463F-A7A5-474CE841D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CB08C-A0DC-4283-B5A6-8037E5EA8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6C026-6D78-4214-A9D5-331627FAC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1D400-F7FB-4DA2-8B28-93723A577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B3ECC-429F-43AF-8ABC-637224F21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5D002-7CFA-4D2B-98B0-BD0CAD00E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3802F-16E1-4BF3-A1CE-B619B7CBA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40C75-986B-4042-9D88-2328FDEC2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72F1F-7E4A-4F3F-93CD-9CB2D0381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551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4025520"/>
            <a:ext cx="77551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3520" y="144756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02552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83520" y="402552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4969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1720" y="1447560"/>
            <a:ext cx="24969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53960" y="1447560"/>
            <a:ext cx="24969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4025520"/>
            <a:ext cx="24969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1720" y="4025520"/>
            <a:ext cx="24969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53960" y="4025520"/>
            <a:ext cx="24969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55120" cy="4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5512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8432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83520" y="1447560"/>
            <a:ext cx="378432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680" y="152280"/>
            <a:ext cx="6764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3520" y="1447560"/>
            <a:ext cx="378432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402552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8432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83520" y="144756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83520" y="402552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83520" y="1447560"/>
            <a:ext cx="3784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025520"/>
            <a:ext cx="77551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1143000"/>
            <a:ext cx="8686800" cy="561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75512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764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2144880" cy="10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:\Users\pdg3\Desktop\Summer-1440X900-2255.jpg"/>
          <p:cNvPicPr/>
          <p:nvPr/>
        </p:nvPicPr>
        <p:blipFill>
          <a:blip r:embed="rId1"/>
          <a:srcRect l="3654" t="0" r="0" b="0"/>
          <a:stretch/>
        </p:blipFill>
        <p:spPr>
          <a:xfrm>
            <a:off x="71280" y="907920"/>
            <a:ext cx="8964720" cy="5894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4"/>
          <p:cNvSpPr/>
          <p:nvPr/>
        </p:nvSpPr>
        <p:spPr>
          <a:xfrm>
            <a:off x="250920" y="4221000"/>
            <a:ext cx="62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лый стол «Использование социальных сетей в продвижении туристических услуг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9" descr="http://s1.uploads.ru/i/ypZik.gif"/>
          <p:cNvPicPr/>
          <p:nvPr/>
        </p:nvPicPr>
        <p:blipFill>
          <a:blip r:embed="rId2"/>
          <a:stretch/>
        </p:blipFill>
        <p:spPr>
          <a:xfrm>
            <a:off x="0" y="0"/>
            <a:ext cx="571500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&amp;Kcy;&amp;acy;&amp;rcy;&amp;tcy;&amp;icy;&amp;ncy;&amp;kcy;&amp;icy;"/>
          <p:cNvPicPr/>
          <p:nvPr/>
        </p:nvPicPr>
        <p:blipFill>
          <a:blip r:embed="rId3"/>
          <a:stretch/>
        </p:blipFill>
        <p:spPr>
          <a:xfrm>
            <a:off x="2711520" y="71280"/>
            <a:ext cx="1428840" cy="98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oktogo.ru - &amp;bcy;&amp;rcy;&amp;ocy;&amp;ncy;&amp;icy;&amp;rcy;&amp;ocy;&amp;vcy;&amp;acy;&amp;ncy;&amp;icy;&amp;iecy; &amp;ocy;&amp;tcy;&amp;iecy;&amp;lcy;&amp;iecy;&amp;jcy; &amp;icy; &amp;gcy;&amp;ocy;&amp;scy;&amp;tcy;&amp;icy;&amp;ncy;&amp;icy;&amp;tscy; &amp;ocy;&amp;ncy;&amp;lcy;&amp;acy;&amp;jcy;&amp;ncy;"/>
          <p:cNvPicPr/>
          <p:nvPr/>
        </p:nvPicPr>
        <p:blipFill>
          <a:blip r:embed="rId4"/>
          <a:stretch/>
        </p:blipFill>
        <p:spPr>
          <a:xfrm>
            <a:off x="5562720" y="476280"/>
            <a:ext cx="1746000" cy="53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http://www.advpositive.ru/assets/static/logo.png"/>
          <p:cNvPicPr/>
          <p:nvPr/>
        </p:nvPicPr>
        <p:blipFill>
          <a:blip r:embed="rId5"/>
          <a:stretch/>
        </p:blipFill>
        <p:spPr>
          <a:xfrm>
            <a:off x="7445520" y="115920"/>
            <a:ext cx="1590480" cy="8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Социальные сети по туриз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324000" y="1268280"/>
            <a:ext cx="828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е отличие от портала – центричность людей, а не контен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социальные сети по туризму в Рунете. Цель – сбор аудитории по фото, отчетам, отзывам, планам, странам, городам, достопримечательностям и т.д. и формирование из них максимально большой лояльной армии пользовате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150 увиденных за 4 года стартапов остались единиц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liveinternet.ru/rating/ru/tourism/mont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ие посетители, за 31 день, уникальные пользова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уристер 889,007 3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орум Винского 787,733 (много постоянных). 10 л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Tour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ru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79,253 3.5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utraveller 242,4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урбина165,2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-то делается: mir.travel, tripster, редиго, еще десяток «мелоч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стают «жиром», контен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Соц сети по туризму для рекла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324000" y="126828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 представителям туркомпаний нишевые соцс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(сравнение с порталами) 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аудитория концентрированная (проблема общих соцсетей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ше в разы отклики на рекл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сквозных рекламных нестандар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ерие пользователей к размещаемым материалам (будет раст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зкого таргетинга по интересам-неправлениям + ге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ция внутренних механизмов ресурса с сервисами рекламода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олучить активную обратную связь от пользователей Возможность диалога с руководством сетей (легче в раз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Соц сети по туризму для рекла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24000" y="126828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ые возмо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иар известных людей как михаил кожухов. Если извес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ы – фидбэк и конт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о своей ЦА: приглашения, эксперты,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отзывами о своем гор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еле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ные возможнос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ендирование сайта и элементы оформления (формы поиска лучшего тарифа оператора в стран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исы – врисовка в планировщ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предложения с узким таргети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йные крупные баннеры с таргетингами. Расхлопы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screen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Соц сети по туризму для рекла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324000" y="126828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щее туристических социальных с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развиваться параллельно с крупными сет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о будут расти и всё больше удаляться в специфичные сервисы для турис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больше походить на порталы. Порталы – на соц се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расти лояльное ядро аудитории этих серви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отщипывать куски аудитории от общих соц.с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зменение под нужны пользователей и тренды туриндуст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209680" y="152280"/>
            <a:ext cx="4862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Конта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95280" y="2776680"/>
            <a:ext cx="8229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7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ая информация и ответы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7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проекта: Андрей Добр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@tourout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я Челозерцев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@tourout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джер проекта: Николаева Татьян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iana@tourout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ной офис находится в Санкт-Петербур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95280" y="1197000"/>
            <a:ext cx="82152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7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 основан компание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звестной в Рунете благодаря таким проектам, ка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hera.c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kant.ru, 110km.ru, Restate.ru, Peterburg2.ru, AllNW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 Суммарная посещаемость созданны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урсов – более 4 млн. уникальных посетителей в меся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004760" y="1952640"/>
            <a:ext cx="4496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Использование нишевых социальных сетей по туризму для увеличения продаж и продвижение брен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423120" y="5013360"/>
            <a:ext cx="2252520" cy="1584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0"/>
          <p:cNvSpPr/>
          <p:nvPr/>
        </p:nvSpPr>
        <p:spPr>
          <a:xfrm>
            <a:off x="395280" y="515772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Добрый, руководител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rOut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8 порталов Интернет-издатель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 стол «Использование социальных сетей в продвижении туристических услу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5" descr="http://www.tourismexpo.ru/images/header3.png"/>
          <p:cNvPicPr/>
          <p:nvPr/>
        </p:nvPicPr>
        <p:blipFill>
          <a:blip r:embed="rId2"/>
          <a:stretch/>
        </p:blipFill>
        <p:spPr>
          <a:xfrm>
            <a:off x="182520" y="0"/>
            <a:ext cx="878220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6443640" y="1628640"/>
            <a:ext cx="2235240" cy="33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Зачем я ту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68360" y="1268280"/>
            <a:ext cx="81360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Aft>
                <a:spcPts val="1500"/>
              </a:spcAft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rOut.ru  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вый и единственный туристический проек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единственный не классический портал в портфеле компани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00"/>
              </a:spcAft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- социальная сеть для туристов и путешественников. Практически нет редакторской информации, только скелет. Предоставляет всю информацию для удачного отдыха, социальный сервис для хра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, и об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ями, рассказами о проведенном отдых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онирование отелей, билетов, поиск туров – партнерские программ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929040" cy="22017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4284720" y="3645000"/>
            <a:ext cx="4319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Aft>
                <a:spcPts val="1500"/>
              </a:spcAft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500"/>
              </a:spcAft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висы, люди, контен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500"/>
              </a:spcAft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дневно ресурс летом посещало до 40 000 человек, сейчас около 25 000 в сутки при 150 000 просмотров страни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Что такое социальная се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24000" y="119700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ая сеть (от англ. social networking service) — платформа, онлайн сервис или веб-сайт, предназначенные для построения, отражения и организации социальных взаимоотнош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социальной сети можно определить по налич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ию публич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убличного профи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емым пользователем связями с другими пользователями (друзья, одноклассники-группники, попутчики, коллеги, сокамерник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мотр, постинг и рейтингование информации по этим связям: новости, друзей друзей, лайки, коммента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сервисы и контент создаются вышеперечисленными средствами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Wikipedia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Нишевая социальная се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24000" y="143352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е нишевой (альтернативной) социальной се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 темати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 типу коммуникации, важности конкретных связ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 размеру аудитории. Ежу понятно, что мен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 количеству нишевых сервисов – не будет вконтакте делать планировщик. Будет – конкретным приложением. Но узнают ли о приложении все пользователи, кто гипотетически может им заинтересова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 определяется тематикой – женщины 25-4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Типичный функционал соц се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24000" y="1268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убликации фото-заметок-сооб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чная (внутренняя почта), со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смотр лент и уведом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ружба и социальные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мментирование и рейтинг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льное внимание к фото- видео- аудио-материал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 внутри ОК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хватает. Таргентированная реклама бъет очень широко. Не говоря уже о неработающ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.ru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Мир, Твиттер и ЖЖ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умы – да, но только исторически. Другая форм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г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835280" y="47628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нок Интернет-туризм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ша в головах у потребите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http://s45.radikal.ru/i108/0902/df/5ffbd6910727.jpg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9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Интернет-туризм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50920" y="476280"/>
            <a:ext cx="8713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йты туроператоров и сайты турагентст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ирование отеле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ing, ostrovo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togo, hotels.com, hotels.su, Hotelscombin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и бронирование биле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yscan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zone.trav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asal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twotrip, anywayanyda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лайн агентств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menu, 1001tour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. туриз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hrut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andirovk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овики туро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ta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n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po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лы с упором на отели или «всё-в-одном»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hotels, otzyv, tur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kosti, turizm.ru, travel.ru, votpusk, 100dorog, tripadvisor, ayda.ru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УРИСТИЧЕСКИЕ СОЦИАЛЬНЫЕ СЕ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ис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, купонные сервисы, просто планировщики, распис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2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урпорталы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835280" y="115920"/>
            <a:ext cx="6781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Нишевая социальная сеть по туриз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95280" y="1268280"/>
            <a:ext cx="82803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Aft>
                <a:spcPts val="1500"/>
              </a:spcAft>
              <a:buClr>
                <a:srgbClr val="bbe0e3"/>
              </a:buClr>
              <a:buFont typeface="Arial"/>
              <a:buChar char="-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324000" y="119700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шевые социальные сети по туризму - это то, о чем все говорили 3 года наз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было: тренд на индивидуальные путешествия, непонимание аудитории и пойдёт-не пойдет (школы, кулинария, технич – да, авто, недвижимость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: осталось несколько игроков, перегретость рынка, суровые реал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ем люди приходят в нишевую соц сеть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и развлечение (уход в тем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ьные и тематические интере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ый доступ к популярным сетям на раб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ость от «быть на виду» в общих соцсет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единомышленников и микро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ычка (пока н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bryi</dc:creator>
  <dc:description/>
  <dc:language>en-US</dc:language>
  <cp:lastModifiedBy>Dobryi</cp:lastModifiedBy>
  <cp:lastPrinted>2009-07-27T07:14:55Z</cp:lastPrinted>
  <dcterms:modified xsi:type="dcterms:W3CDTF">2012-09-28T10:47:43Z</dcterms:modified>
  <cp:revision>6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